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2E20-7673-4FD5-84BB-E9E9A8B22C7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A32D6-6539-4165-91B8-62914DFB5EF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5A4D-FC2C-42CD-A199-3925F9F2F8E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C178F-6835-4F27-AB02-EFC5B2B3B2E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2BC2-8A21-4F62-871E-CB644D979C5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5AA9-11ED-4EDB-951F-5E1414E0C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5E3C-A601-4E57-AC7D-20540D87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9051-305E-4BC6-B9F4-65AC1B240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121-E2B1-4C29-A9BF-32E90C385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D6F31-CE92-4BBF-A375-AA67CDF8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7B1E-2071-4349-AD80-DD786E17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9377-7DF1-4953-A051-64FB2E799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AAB4F-BB9E-4561-8A2F-C4B06AEC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DD952-722D-4AC0-BB5F-5DB7A9E9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A936-BDCB-4563-952F-06D36783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1159-06DF-48E4-8953-7192E20C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3F8-72D3-49D2-9E9B-4FA04FF9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12C18-322A-4370-B51D-6D4530BD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7B15-0F53-4540-B92E-97748CD51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2E002-5AA1-439C-A76A-15A6F63E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C3A3-41A4-4EB4-AD0D-4DA60644F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1D72F-589E-46A1-A8EB-00BBFE618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6ADAF-696D-496A-A603-FA65CDC08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2A7A3-ABDB-4017-B63E-A5B02D3B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5572F-8CB4-4BF5-B070-62015F7C9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1D1E4-C346-469D-A7C5-0964B4FC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7A576-963C-47FF-9DBC-4A0C3B8CA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E392-37A9-40F7-A73C-E6A3DCE9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FD84D-1689-4FF1-A3AD-BF2D0F8A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C44DF-A11F-4535-962E-0168FD09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6FFE7F-915B-476F-86E0-7912B6E8C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81B95-A1A9-4C9C-A87B-86D45831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3CF8A-28A1-4C59-8776-9BE766B0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B75DD-4F92-4E16-9F91-CC9AA25C2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7DB70-C01C-4FBF-B930-842E84A21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47DAE-0D38-4F38-9AA4-D7A7CB2C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ACED3-FBB3-4B65-AEE2-E25F970B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651A0-2903-4492-99BC-43E635F4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3138-7275-46B1-98E4-7BE6C2AF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D6BD8-EE07-4BEA-BB0E-FDF9D9C9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AE54F-58A5-4BE9-BD14-4443A2F9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452EE-C1E9-43AE-A15C-92C5F8F0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CBE9A-2D76-47D0-9AD5-87CA74B8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98976-2877-4407-BC01-DB63DD2F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93EFA-F6FE-4DA2-8ED8-7D1AEA04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DC59E-C5B8-4B9D-83CD-79FA2A8A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49328-1A55-4A54-BC3A-54DE3A2DB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B923B-DD34-4D77-9374-1C2D5325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75ACC-F7A1-4D58-8A3D-396AA2FA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51FF-FD9F-4185-BE07-7845090D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D50B3-8B03-4BAE-8A7F-303D04D82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C7979-A0C6-4D37-8EC8-C11AB8D6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C38D2-5B6F-478C-891B-D3D85A276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59E07-5A81-4E64-BA41-404131FC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75407-BB21-4335-8DA6-24EB2B44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5CEFC0-9802-481B-AA4A-E21BA37EE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0E76AB-8BF6-4F1C-9EC7-113FFE48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91B9A3-0282-41BB-975D-FA806CE3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34F88-A647-4281-97F7-CC7CBFB09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9B97F-DA87-4237-A564-68CCF9F4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A5A8-8FBB-43D1-865D-48FB5444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F8A26-D573-4094-947B-45C54AFE0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3F7B1-23CF-4B75-B973-25FA6728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40993-4ABC-4656-B6AD-0BDFE449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AA7BB-ED4D-4E50-AEBF-391C6999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2C97E-9123-44D3-97CF-6774EBB77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CC3A3C-F099-4726-9E37-76A167AD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5A79A-14A5-4107-BF2C-DAE41EA60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1FFD6D-B6CD-46F0-B6C7-C3BF3706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51268-7FBD-4E6E-8C0F-67DBBA28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F72C7-C42D-4E11-8167-2A264251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7173-D6A6-4B67-A6FD-72FA9658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64CBE-483C-48B9-A6ED-CB39C167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88E11-97A1-4C56-9169-BAB48BFCB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14FB2-E514-43FF-8AE4-FC0CDD5A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E20-2274-4D74-ACF9-23E4EFBA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809-E308-4581-B147-04ACD124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30D0-F2E6-4AF8-914D-EE15EBF6F1BA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C812-1B8F-4182-B3CB-E945A3BACF5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6EFBD-6723-4548-97D2-B5A753C19A8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CF5C-F31E-4A33-93CD-C4C8EE73F1B5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3A4D-01AD-4B2B-8A84-2BED10F33D6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4E0D-D1AC-498D-B675-2D1DAE052CF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B0577-542D-4A6A-88F2-D12D3ECCB77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D7B9-DBB6-4C47-9A1D-F5C66FDBE27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7BDF-B4E5-4E19-9413-0422C63A9D0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0751-5D88-4305-BDC4-59F1FDE860E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6C83-2364-446D-A36B-7723D9EC76F1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5E9F-A9F7-4ACA-A14D-C7A5842FD61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1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5400" spc="-1" strike="noStrike">
                <a:solidFill>
                  <a:srgbClr val="000000"/>
                </a:solidFill>
                <a:latin typeface="Arial"/>
              </a:rPr>
              <a:t>Aposentados/as que exercem atividade remunera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agost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2"/>
          <p:cNvSpPr/>
          <p:nvPr/>
        </p:nvSpPr>
        <p:spPr>
          <a:xfrm>
            <a:off x="479520" y="936720"/>
            <a:ext cx="10801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muneração Média Nominal em R$ por Tipo de Desligamento e Faixa Etária na Aposentadoria* CLT - RAIS/2015 – Posição Dezembro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363600" y="6210360"/>
            <a:ext cx="108014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Gráfico 6"/>
          <p:cNvGraphicFramePr/>
          <p:nvPr/>
        </p:nvGraphicFramePr>
        <p:xfrm>
          <a:off x="573120" y="1344600"/>
          <a:ext cx="10326600" cy="485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Gráfico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1344600"/>
                    <a:ext cx="1032660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334800" y="765000"/>
            <a:ext cx="1080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Secretaria de Previdê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Subsecretaria de Regime Geral de Previdência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Coordenação-Geral de Estudos Previdenci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 </a:t>
            </a:r>
            <a:r>
              <a:rPr b="1" lang="pt-BR" sz="3200" spc="-1" strike="noStrike">
                <a:solidFill>
                  <a:srgbClr val="002060"/>
                </a:solidFill>
                <a:latin typeface="Arial"/>
                <a:ea typeface="Arial Unicode MS"/>
              </a:rPr>
              <a:t>(61) 2021-5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34800" y="684360"/>
            <a:ext cx="107301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 por Aposentadoria* e UF –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334800" y="6235560"/>
            <a:ext cx="1044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271520" y="1268280"/>
          <a:ext cx="6408720" cy="4969080"/>
        </p:xfrm>
        <a:graphic>
          <a:graphicData uri="http://schemas.openxmlformats.org/drawingml/2006/table">
            <a:tbl>
              <a:tblPr/>
              <a:tblGrid>
                <a:gridCol w="1524240"/>
                <a:gridCol w="1331640"/>
                <a:gridCol w="1330560"/>
                <a:gridCol w="1260360"/>
                <a:gridCol w="961920"/>
              </a:tblGrid>
              <a:tr h="254160">
                <a:tc gridSpan="5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dade de Vínculos Ativos por Aposentadoria* CLT - RAIS 2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12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F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gridSpan="4"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o Desligam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Tempo de Contribuiçã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por Idad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Especi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ndô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on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raim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p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anhã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u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ar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Nor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71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íb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nambu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go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gip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2127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as Gerai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8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írito Sa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ão Paul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1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ná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ta Catari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S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 do Su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á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72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to Feder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144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1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2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6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8183520" y="1349280"/>
          <a:ext cx="1928880" cy="4876920"/>
        </p:xfrm>
        <a:graphic>
          <a:graphicData uri="http://schemas.openxmlformats.org/drawingml/2006/table">
            <a:tbl>
              <a:tblPr/>
              <a:tblGrid>
                <a:gridCol w="1436760"/>
                <a:gridCol w="492120"/>
              </a:tblGrid>
              <a:tr h="24768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rai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p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8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cant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ndô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anh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íb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o Gros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go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zon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Nor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i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9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au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gi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ar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to Fede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pírito Sa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nambu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h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ta Catar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7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4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as Gera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Grande do Su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31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o de Janei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460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ão Pau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1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07880" y="765000"/>
            <a:ext cx="108507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total de Vínculos Ativos por Aposentadoria* -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1000080" y="6288120"/>
            <a:ext cx="10225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Gráfico 4"/>
          <p:cNvGraphicFramePr/>
          <p:nvPr/>
        </p:nvGraphicFramePr>
        <p:xfrm>
          <a:off x="1652760" y="1219320"/>
          <a:ext cx="7788240" cy="506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Grá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219320"/>
                    <a:ext cx="778824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* por Setor de Atividade e Faixa Etária -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95160" y="1773360"/>
          <a:ext cx="10887120" cy="3070080"/>
        </p:xfrm>
        <a:graphic>
          <a:graphicData uri="http://schemas.openxmlformats.org/drawingml/2006/table">
            <a:tbl>
              <a:tblPr/>
              <a:tblGrid>
                <a:gridCol w="1400400"/>
                <a:gridCol w="1222200"/>
                <a:gridCol w="1222560"/>
                <a:gridCol w="1157040"/>
                <a:gridCol w="882720"/>
                <a:gridCol w="917640"/>
                <a:gridCol w="1025640"/>
                <a:gridCol w="1528560"/>
                <a:gridCol w="1530360"/>
              </a:tblGrid>
              <a:tr h="341280">
                <a:tc gridSpan="9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dade de Vínculos Ativos por Aposentadoria* e Setor Atividade CLT - RAIS 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880">
                <a:tc rowSpan="2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xa Etár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gridSpan="8"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BGE Se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0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ativa miner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ústria de transform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ços industriais de utilidade púb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rução Civi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érc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ç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istração Públ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000" rIns="9000" tIns="900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ropecuária, extração vegetal, caça e pes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11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a 39*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a 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a 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6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28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e m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1040">
                <a:tc>
                  <a:txBody>
                    <a:bodyPr lIns="9000" rIns="9000" tIns="90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4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3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" rIns="9000" tIns="90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85" name="CaixaDeTexto 2"/>
          <p:cNvSpPr/>
          <p:nvPr/>
        </p:nvSpPr>
        <p:spPr>
          <a:xfrm>
            <a:off x="450720" y="5877000"/>
            <a:ext cx="989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* Foi estabelecido um intervalo maior de faixa etária devido a erros de preenchimento na RAIS, o que explica a existência de aposentadoria em idades muito preco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3"/>
          <p:cNvSpPr/>
          <p:nvPr/>
        </p:nvSpPr>
        <p:spPr>
          <a:xfrm>
            <a:off x="450720" y="6143760"/>
            <a:ext cx="1044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587520" y="932040"/>
            <a:ext cx="10801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Total  de Vínculos Ativos* por Setor de Atividade -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479520" y="6202440"/>
            <a:ext cx="108010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Gráfico 7"/>
          <p:cNvGraphicFramePr/>
          <p:nvPr/>
        </p:nvGraphicFramePr>
        <p:xfrm>
          <a:off x="2228760" y="1511280"/>
          <a:ext cx="7518600" cy="4853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0" name="Gráfico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8760" y="1511280"/>
                    <a:ext cx="7518600" cy="48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623880" y="836640"/>
            <a:ext cx="1058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*  por Faixa de Remuneração (Salário Mínimo) e Sexo 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515880" y="6211800"/>
            <a:ext cx="11160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623880" y="1989000"/>
          <a:ext cx="10585440" cy="2052720"/>
        </p:xfrm>
        <a:graphic>
          <a:graphicData uri="http://schemas.openxmlformats.org/drawingml/2006/table">
            <a:tbl>
              <a:tblPr/>
              <a:tblGrid>
                <a:gridCol w="1012680"/>
                <a:gridCol w="681120"/>
                <a:gridCol w="722520"/>
                <a:gridCol w="725400"/>
                <a:gridCol w="668160"/>
                <a:gridCol w="736560"/>
                <a:gridCol w="736920"/>
                <a:gridCol w="722160"/>
                <a:gridCol w="654120"/>
                <a:gridCol w="654120"/>
                <a:gridCol w="653760"/>
                <a:gridCol w="654120"/>
                <a:gridCol w="655560"/>
                <a:gridCol w="654120"/>
                <a:gridCol w="654120"/>
              </a:tblGrid>
              <a:tr h="39708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x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gridSpan="14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xa de Remunera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≤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0.5 a 1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 a 1.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.5 a 2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 a 3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3 a 4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4 a 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5 a 7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7 a 10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0 a 15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15 a 20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20 S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{ñ class}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97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scul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7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1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in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9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9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6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4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4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0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2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.6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Total de Vínculos  Ativos* por Faixa de Remuneração (Salário Mínim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LT – RAIS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3"/>
          <p:cNvSpPr/>
          <p:nvPr/>
        </p:nvSpPr>
        <p:spPr>
          <a:xfrm>
            <a:off x="334800" y="6350040"/>
            <a:ext cx="1039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6" name="Gráfico 4"/>
          <p:cNvGraphicFramePr/>
          <p:nvPr/>
        </p:nvGraphicFramePr>
        <p:xfrm>
          <a:off x="233280" y="1506600"/>
          <a:ext cx="105444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7" name="Gráfico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1506600"/>
                    <a:ext cx="105444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344520" y="606600"/>
            <a:ext cx="110538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Vínculos Ativos* por Faixa de Remuneração (Salário Mínimo) e Sexo CLT - RAIS 2015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3"/>
          <p:cNvSpPr/>
          <p:nvPr/>
        </p:nvSpPr>
        <p:spPr>
          <a:xfrm>
            <a:off x="334800" y="6334200"/>
            <a:ext cx="11306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Gráfico 5"/>
          <p:cNvGraphicFramePr/>
          <p:nvPr/>
        </p:nvGraphicFramePr>
        <p:xfrm>
          <a:off x="896760" y="1300320"/>
          <a:ext cx="10182240" cy="5135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1" name="Gráfico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6760" y="1300320"/>
                    <a:ext cx="10182240" cy="51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987480" y="765000"/>
            <a:ext cx="100774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muneração Média Nominal em R$ por Tipo de Desligamento e Faixa Etária na Aposentadoria* CLT - RAIS/2015 - Posição Dezembro/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tângulo 2"/>
          <p:cNvSpPr/>
          <p:nvPr/>
        </p:nvSpPr>
        <p:spPr>
          <a:xfrm>
            <a:off x="987480" y="6093000"/>
            <a:ext cx="10217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: RAIS/ 2015 * Os vínculos ativos por desligamento nos seguintes tipos (Aposentadoria Tempo de Contribuição Sem Rescisão Contratual, Aposentadoria por Idade Sem Rescisão Contratual, Aposentadoria Especial Sem Rescisão Contratual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Elaboração: MF/SPREV/CGEP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1127160" y="1773360"/>
          <a:ext cx="9793080" cy="3887640"/>
        </p:xfrm>
        <a:graphic>
          <a:graphicData uri="http://schemas.openxmlformats.org/drawingml/2006/table">
            <a:tbl>
              <a:tblPr/>
              <a:tblGrid>
                <a:gridCol w="1461960"/>
                <a:gridCol w="2210040"/>
                <a:gridCol w="1800000"/>
                <a:gridCol w="2521080"/>
                <a:gridCol w="1800000"/>
              </a:tblGrid>
              <a:tr h="892080">
                <a:tc gridSpan="5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muneração Média Nominal em R$ por Tipo  de Desligamento e Faixa Etária na Aposentadoria* CLT - RAIS/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2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Tempo de Contribuiçã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por 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sentadoria Especi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a 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859,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36,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06,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68,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a 4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681,8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907,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70,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34,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a 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81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09,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943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97,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 e ma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22,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22,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62,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53,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893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30,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95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20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08-04T17:02:49Z</dcterms:modified>
  <cp:revision>455</cp:revision>
  <dc:subject/>
  <dc:title>Demografia</dc:title>
</cp:coreProperties>
</file>